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4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383-AC97-45EE-A1D5-B4038817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EE5-A71B-44E7-928D-8DACF0B8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131-8BD3-42D6-9888-BB6DC732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FBA-486C-463E-8CAC-9ADE679E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9A15A-3A30-4E70-B68F-FF970D84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3F973-32F3-4FE6-A138-450DDBB5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3F60D-1394-4910-8FE3-BC876487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4F15D-9D88-4E19-864D-CB205121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C71B6-1868-4F97-8A5E-6CA6F99A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E8857-CF38-490E-8BC4-84F083D3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DB3D2-374D-4A17-9F05-139777DA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D6A-F330-47BD-B358-C375845B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FFF62-92DC-48E1-BC45-3C3FCD3C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DA9CD-534E-47EA-B76F-3877EE66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96306-E121-43C2-AA1E-D564B70D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DFF8A-E3DF-4860-A36D-786CAE2C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8154C-3E53-499F-B2E5-87A23F86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F40D7-B00B-494C-81F0-25F6B7D8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6CC02-8CE6-4920-A112-466CAA96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70A4F-7357-482B-B66A-5E6A5D5F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9476-8BCE-489B-BA9C-38F1D84D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321A-FA06-49EE-998D-D541715D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B70-E1F3-4255-ACF7-6DF8865F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B14C9-E9EC-448B-84B1-E882D701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1D351-18B2-4618-BBEB-6C8E015F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D0DF5-60B5-4C5F-AC1F-4E6B38AB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FD937-B83A-4AB4-A681-3CE2E3FE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8BC8E-3CBD-4282-9B8B-6F855BE0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08442-A0DD-417D-B301-890571B6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87DA8-3386-4C3C-B428-07E92CA0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B6C-E627-4886-AF5F-30F459FE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2EC-5573-4B7A-9C4C-CC92745C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2D5-F3BA-4072-BC38-267DA852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D39-C19B-475F-AACE-7CCCD71B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8CA-4956-42BF-9A5C-65052705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850-B570-4E3F-9BA8-49159989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7665-7104-4AC2-A06D-87654B61B96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114D-36F0-4860-BFC1-77A18D8EB262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2E34-89DA-41FD-A860-023C0B10886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icyclic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nected end-to-end forming a r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ve single and/or double bonds present in the main ch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l formula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“saturated” or “unsaturated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ffix changes depending on presence of double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fix used is always “cyclo~” before the roo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,3-dimethyl benz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,4-dimethyl benz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ta-dimethyl benzen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a-dimethyl benze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2867040" cy="2951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724360" y="1413000"/>
            <a:ext cx="20275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UPAC has retained many of the common names for aromatics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7377120" cy="1873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78040" y="4508640"/>
            <a:ext cx="686268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try naming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-ethyl-5-methyl phen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348000" y="2060640"/>
            <a:ext cx="490536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try drawing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,6-diethyl-3-methyl benzaldehy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79760" y="2814480"/>
            <a:ext cx="573732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use whe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aming compounds with &gt;1 fxn’l group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aming compounds with a complicated substitu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54160" y="4611600"/>
            <a:ext cx="8565840" cy="1506600"/>
          </a:xfrm>
          <a:prstGeom prst="rect">
            <a:avLst/>
          </a:prstGeom>
          <a:ln w="0">
            <a:noFill/>
          </a:ln>
        </p:spPr>
      </p:pic>
      <p:grpSp>
        <p:nvGrpSpPr>
          <p:cNvPr id="208" name="Oval 6"/>
          <p:cNvGrpSpPr/>
          <p:nvPr/>
        </p:nvGrpSpPr>
        <p:grpSpPr>
          <a:xfrm>
            <a:off x="1378080" y="4048200"/>
            <a:ext cx="3157560" cy="2870280"/>
            <a:chOff x="1378080" y="4048200"/>
            <a:chExt cx="3157560" cy="2870280"/>
          </a:xfrm>
        </p:grpSpPr>
        <p:pic>
          <p:nvPicPr>
            <p:cNvPr id="209" name="Oval 6" descr=""/>
            <p:cNvPicPr/>
            <p:nvPr/>
          </p:nvPicPr>
          <p:blipFill>
            <a:blip r:embed="rId2"/>
            <a:stretch/>
          </p:blipFill>
          <p:spPr>
            <a:xfrm>
              <a:off x="1378080" y="4048200"/>
              <a:ext cx="315756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009880" y="4641840"/>
              <a:ext cx="1884240" cy="16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11" name="Oval 7"/>
          <p:cNvGrpSpPr/>
          <p:nvPr/>
        </p:nvGrpSpPr>
        <p:grpSpPr>
          <a:xfrm>
            <a:off x="5840280" y="3975120"/>
            <a:ext cx="3376800" cy="3016080"/>
            <a:chOff x="5840280" y="3975120"/>
            <a:chExt cx="3376800" cy="3016080"/>
          </a:xfrm>
        </p:grpSpPr>
        <p:pic>
          <p:nvPicPr>
            <p:cNvPr id="212" name="Oval 7" descr=""/>
            <p:cNvPicPr/>
            <p:nvPr/>
          </p:nvPicPr>
          <p:blipFill>
            <a:blip r:embed="rId3"/>
            <a:stretch/>
          </p:blipFill>
          <p:spPr>
            <a:xfrm>
              <a:off x="5840280" y="3975120"/>
              <a:ext cx="3376800" cy="30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505560" y="4589640"/>
              <a:ext cx="2036880" cy="17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naming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-phenyl hexa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254480" y="2349360"/>
            <a:ext cx="36306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drawing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,6-diphenyl 2-oct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87560" y="2619360"/>
            <a:ext cx="55720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Up nex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at covers the basics of hydrocarbons in organic chemistr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xt we will cover functional groups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naming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yclobuta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yclo-1-pent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yclopent-1-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58920" y="3284640"/>
            <a:ext cx="2141640" cy="1698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844880" y="2867040"/>
            <a:ext cx="24638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drawing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yclo-1,4-hexadi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,7-diethyl-4-methy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yclo-1,3,5-heptatri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42920" y="3041640"/>
            <a:ext cx="2495520" cy="2043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718080" y="1484280"/>
            <a:ext cx="49482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romatic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sed on benzene and the presence of benzene-like ri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nzene is a six-carbon ring with three double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yclo-1,3,5-hexatrien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ever, the electrons in the double bonds are actually spread over the whole molecule =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delocaliz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enzene actually has six </a:t>
            </a: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identica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“1 ½” bond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romatic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s greater stability in the molecu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“1 ½” bonds do not behave/react like double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lecules that have this type of sharing are referred to a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romatic compou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nz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484360" y="4581360"/>
            <a:ext cx="1832040" cy="1816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003640" y="4581360"/>
            <a:ext cx="18720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romatic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me common aromatics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nz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pthal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trac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82560" y="2708280"/>
            <a:ext cx="1405080" cy="1393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16280" y="2708280"/>
            <a:ext cx="2692440" cy="1533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290840" y="4724280"/>
            <a:ext cx="38196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9868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umber carbons in benzene ring assigning lowest number to a branch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79120" indent="-493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f more than one branch exists, start numbering at the branch that contains the group with the highest priority (most complex)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59868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me branches attached to the benzene ring, assigning numbers to each branch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79120" indent="-493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f only one branch is present, a number does not need to be assigne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59868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anches are placed before the root as a prefix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ority of branches on benzen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00000" y="2924280"/>
          <a:ext cx="7272360" cy="3384360"/>
        </p:xfrm>
        <a:graphic>
          <a:graphicData uri="http://schemas.openxmlformats.org/drawingml/2006/table">
            <a:tbl>
              <a:tblPr/>
              <a:tblGrid>
                <a:gridCol w="3635640"/>
                <a:gridCol w="36367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Highest prior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-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63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-N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-F, -Cl, -Br, -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-CH2CH2CH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-CH2CH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Lowest prior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-CH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benzene has only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ranches, position numbers do not have to be us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stead, prefixes ortho-, meta-, and para- replace position numb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,2-dimethyl benz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tho-dimethyl benz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26114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9:49:02Z</dcterms:created>
  <dc:creator>C. Shopman</dc:creator>
  <dc:description/>
  <dc:language>en-US</dc:language>
  <cp:lastModifiedBy>C363966</cp:lastModifiedBy>
  <dcterms:modified xsi:type="dcterms:W3CDTF">2017-09-09T00:30:50Z</dcterms:modified>
  <cp:revision>57</cp:revision>
  <dc:subject/>
  <dc:title>Intro to organic chemistry (orgo)</dc:title>
</cp:coreProperties>
</file>